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1F15-9DB3-4E04-87D8-2A96B277B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8219-E5F1-4020-B8C6-C58CD9F43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C4DD-99B4-4374-AE8E-87DC3EFFB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DBB9-9B9B-4DD0-B377-6C632B3D3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F7EF1-591A-4B9E-909B-C2E470AAB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F6670-D7D7-4321-9704-10D7D447A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6A505-A65B-4C68-A9CF-392048111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EDF10-4BE4-43C7-875A-26AED1AED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6EA94-6B54-4935-B041-D825B6502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E8841-34A8-45C8-9511-39C1D96CF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AAD3A-5854-44B0-B27F-113EE407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D0DC-B8B1-43F4-A416-DAD358DE2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6CAF1-0EF5-44FB-8E47-0450F846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43CBC-2304-4A81-84E1-D8D7DF72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CCD1D-A51F-49C8-8B00-C931766B8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7BDBF-A743-4F19-9D99-08C007971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8FDFF-5817-43BB-A677-67CFF5B72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8F06-4683-44F0-A7DB-0C5BF9CA8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B835-2231-4CB8-BA82-7EF8FBCA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512D-06AF-4F73-88DD-B7AB4144F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1D95-684B-4F2F-B469-52CC5A655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3831-8265-4FF3-AAF5-325CAEFB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62A0-E485-4EAD-BAE2-F718373F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1914-9D63-423D-A214-E2723EA9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BB911-51A6-4E1F-818A-0E68F800FCF3}" type="slidenum"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31AE0-94DA-45C3-9321-6939FD7B6E30}" type="slidenum"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99cc00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cc00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        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lkali Metals!!! 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y Sidney and Brayden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lements name are: Lithium, Sodium, Potassium, Rubidium, Cesium, and Francium!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t’s classified as a metal!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t has one valence number!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ts found in the first column but don’t count Hydrogen!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e products that r used with them are medicine, fertilizer, and soap!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y family is pretty inserting because all the names end with a ium!!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Group 1!!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Periodic Table!!!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784872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14:59:25Z</dcterms:created>
  <dc:creator>tatumadmin</dc:creator>
  <dc:description/>
  <dc:language>en-US</dc:language>
  <cp:lastModifiedBy>tatumadmin</cp:lastModifiedBy>
  <dcterms:modified xsi:type="dcterms:W3CDTF">2009-12-04T15:31:39Z</dcterms:modified>
  <cp:revision>2</cp:revision>
  <dc:subject/>
  <dc:title>         Alkali Metals!!!  </dc:title>
</cp:coreProperties>
</file>